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Musica%20Menu%20Popup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7DE0-8DC2-42BF-AD5E-F6E5D8D42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8743-BD3D-449A-B665-FCFF0E97E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95DF-50E7-4A06-979B-169C2FAAE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9DAE-92F8-4C98-B799-F2506D457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B064-C635-40FB-B082-78D3D747A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124E-9661-4C5B-981E-B23C1A71B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7EE1-6427-48B9-95B1-8D97E0E53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1B1C-1D45-47FD-96DF-2B8D900A8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B59B-AF0B-45C8-9A07-29E466070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9285-EF3C-431F-B033-FC79FF410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1536-EFE6-45ED-A124-209216D4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48FB-21D9-4598-B55E-C614F816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7AE7E-EF1B-4AEA-B9E8-A3909B197F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file:///tmp/home/.config/libreoffice/4/user/gallery/Utopia%20Restore%20Up.wav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Utopia%20Restore%20Up.wav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Musica%20Menu%20Popup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495680" y="609480"/>
            <a:ext cx="228600" cy="541044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50000">
                <a:srgbClr val="996633"/>
              </a:gs>
              <a:gs pos="100000">
                <a:srgbClr val="663300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724280" y="609480"/>
            <a:ext cx="4073760" cy="54468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43" name=""/>
          <p:cNvSpPr/>
          <p:nvPr/>
        </p:nvSpPr>
        <p:spPr>
          <a:xfrm>
            <a:off x="4724280" y="609480"/>
            <a:ext cx="4038840" cy="541044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100000">
                <a:srgbClr val="663300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933440" y="1295280"/>
            <a:ext cx="3233160" cy="825120"/>
          </a:xfrm>
          <a:prstGeom prst="rect">
            <a:avLst/>
          </a:prstGeom>
          <a:noFill/>
          <a:ln w="0">
            <a:noFill/>
          </a:ln>
          <a:effectLst>
            <a:outerShdw dist="81185" dir="307803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9900"/>
                </a:solidFill>
                <a:latin typeface="Comic Sans MS"/>
              </a:rPr>
              <a:t>Book Tit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255640" y="5334120"/>
            <a:ext cx="2545920" cy="520560"/>
          </a:xfrm>
          <a:prstGeom prst="rect">
            <a:avLst/>
          </a:prstGeom>
          <a:noFill/>
          <a:ln w="0">
            <a:noFill/>
          </a:ln>
          <a:effectLst>
            <a:outerShdw dist="81185" dir="307803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Comic Sans MS"/>
              </a:rPr>
              <a:t>By Your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" action="ppaction://hlinkshowjump?jump=nextslide"/>
            <a:hlinkClick r:id="rId3"/>
          </p:cNvPr>
          <p:cNvSpPr/>
          <p:nvPr/>
        </p:nvSpPr>
        <p:spPr>
          <a:xfrm>
            <a:off x="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533520"/>
            <a:ext cx="8610840" cy="56386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50000">
                <a:srgbClr val="cc9900"/>
              </a:gs>
              <a:gs pos="100000">
                <a:srgbClr val="66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95680" y="685800"/>
            <a:ext cx="228600" cy="525780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50000">
                <a:srgbClr val="996633"/>
              </a:gs>
              <a:gs pos="100000">
                <a:srgbClr val="663300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724280" y="609480"/>
            <a:ext cx="4038840" cy="541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You can simply add your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wn text and pictu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nto each p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Just click to add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r use Insert Pict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609480"/>
            <a:ext cx="4038480" cy="541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py this page as m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imes as you n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y changing the autosh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ettings, the paper can 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ny colour or tex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you cho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" action="ppaction://hlinkshowjump?jump=nextslide"/>
            <a:hlinkClick r:id="rId2"/>
          </p:cNvPr>
          <p:cNvSpPr/>
          <p:nvPr/>
        </p:nvSpPr>
        <p:spPr>
          <a:xfrm>
            <a:off x="0" y="632304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495680" y="609480"/>
            <a:ext cx="228600" cy="541044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50000">
                <a:srgbClr val="996633"/>
              </a:gs>
              <a:gs pos="100000">
                <a:srgbClr val="663300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33520" y="609480"/>
            <a:ext cx="4073400" cy="5446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533520" y="609480"/>
            <a:ext cx="4038480" cy="541044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100000">
                <a:srgbClr val="663300"/>
              </a:gs>
            </a:gsLst>
            <a:lin ang="10800000"/>
          </a:gradFill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609480"/>
            <a:ext cx="350496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reat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Your Cla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ith a little help f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eac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usica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1T12:13:16Z</dcterms:created>
  <dc:creator>Ian Bean</dc:creator>
  <dc:description/>
  <dc:language>en-US</dc:language>
  <cp:lastModifiedBy> </cp:lastModifiedBy>
  <dcterms:modified xsi:type="dcterms:W3CDTF">2006-02-14T02:24:32Z</dcterms:modified>
  <cp:revision>36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3</vt:r8>
  </property>
  <property fmtid="{D5CDD505-2E9C-101B-9397-08002B2CF9AE}" pid="8" name="HomePage">
    <vt:lpwstr>http://freespeace.virginnet.co.uk/ian.priorywoods/index.html</vt:lpwstr>
  </property>
  <property fmtid="{D5CDD505-2E9C-101B-9397-08002B2CF9AE}" pid="9" name="LinkColor">
    <vt:r8>16711782</vt:r8>
  </property>
  <property fmtid="{D5CDD505-2E9C-101B-9397-08002B2CF9AE}" pid="10" name="MailAddress">
    <vt:lpwstr>ian.priorywoods@virginnet.co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temp\Powertest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